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1894-A83D-48A8-9847-5BC40CEA061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E3AF-F131-4D8C-9504-100816B62BC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90E2-AB04-435D-A25B-B638A179826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EE07-DBB0-41CA-96DB-4131DCD64EC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3027-7FD6-40B7-BAC1-6CBF0E428BC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1C7A-0AA9-4D6A-86D8-2BF721F3936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9BC2-BEE3-4756-8B74-5EA65108947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F6C9-F820-46B4-8FDF-C11166BF8DC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9329-55B6-4804-8DFD-3C6D8E5B406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824D-4203-4B3C-B32D-ACFC864034E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0811-33FF-46DB-8D31-D01027DB2B8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0F0E-5574-4E2C-90B2-F7556388B17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3C57-F660-4FAE-B011-EEBE30D44B5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DAFD-D89C-4E80-A980-12021B6B688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97E1-F699-4A02-8E8D-CDCA153507F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EFD1-C1AE-40ED-A506-14A04F1F8E6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19B7-1E92-467F-95AA-97B0974657E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7277-3669-417A-92B6-8E8D8010577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2A1A-2887-4FFB-AC95-4B8192800F7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8CF2-AE5B-40F2-ADDD-28F4C180089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F6E2-7A17-4B56-BDED-F4030C29F64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85EB-1969-4420-8CA6-2075A9DC7C5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F81D-7F06-47A9-8653-3C8A43B663E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8E8D-7EB0-4965-BCE8-916717312E3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03B9-C173-4DDE-B09D-9D5CC6A910D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ADF6-F96E-437D-B089-5A7236E3A3A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CCA6-B03F-413E-A095-A11E6D397A5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31CE-350A-45F7-973B-1C6B59522B2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07C0-C670-4FFC-87DC-EFBB3F05A64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60F5-461B-4B36-854E-CEDE0062D60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70A5-AEE3-4C4F-9FE4-EE5D0B6AB1F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8DEB-D6F9-4080-9B09-85597FFD9C8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5946-EE61-46D7-8E7A-54423A2D28A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9837-411D-475E-8FC8-4418115B8B8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5A82-B654-4671-97F9-B5B6DD9FBF1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D690-0C44-4104-B40A-3325FDA3CBC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A4EF-99E2-4D31-9DEA-10ED4CBF015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8388-24DE-4BAF-B63A-9C6EBAB6171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D1FD-63F8-44E9-B095-D2E4FCA6F39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940A-CD09-40AF-AAAF-F3F97CB5F05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6779-73FB-44B4-9100-9961DB45967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686A-C4EE-4473-AD28-6298317D357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CB81-80A7-4114-A37E-B80A5D86BEF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7E93-976B-4453-AA06-06E499E2F69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6F9D-2E10-41A8-B6F6-85509E4BFF0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BAD4-8AD7-4AAC-992C-2BCAD9D77AB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6008-7A9E-4C4D-940C-6EBF53DB839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3B51-06DC-4461-95A9-D32C2351FF0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AA75-6676-49C7-8E45-AA595F4447B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7FAD-EAE7-4FCA-A7F1-923E8C61899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66C2-6402-4AD2-84A5-B30009B92A4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F49E-5E4A-4DA1-ACE2-9E4470B79A7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4C68-046F-4BBD-AB01-25026712F48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B528-4E82-4702-B411-61CF39F8A0A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D6D9-D46A-46DF-A115-EB44059906B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CB1D-3670-4D8B-A867-9F421DD1376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D21B-2A8E-4601-BCFD-054A0F40F32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DAA9-21F6-4B1B-AA8D-C70E4447A85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338A-AC16-4B32-A772-371A859DA5C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A784-FF91-41FE-877B-1F773929EAA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8DC4-5242-4668-B9A6-49CB10CAB8A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1AF3-3DBF-4F61-8581-B36DF9535F4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BD7E-7011-4865-8C1F-83DD1567D12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7DC2-39C3-42DD-AD2F-41BABE5400A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95A3-0B13-4B9F-BB86-4ECF318861D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F23F-2B52-462C-B948-EBAF4708E7B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0677-34CF-4DF2-B233-08B4D131699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B086-39AE-4E3D-B030-F178031D10D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E920-8CAD-4FF6-9AB4-E95BB48891D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81E3-A89E-4855-8C39-259C7AB5193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78F6-4275-4B50-82CE-B1F6969806A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F06D-6DD2-40E7-BFA9-AD8D857944C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C89E-3F9F-40B7-A143-DF2A050F227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790E-203E-486C-A83C-700926BCDDE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055B-6B51-4E4E-A94D-3F839B4FF19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E6A1-D728-43AF-BC7A-759A611A89D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806B-1B50-4925-8639-8CC437E7C2F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52EB-23AF-4823-A5EC-46EC828C915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75E1-121C-4123-9996-7F743CDA4AC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BFDC-BE37-489E-8138-8540B18453A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69FD-4CB1-48F7-B20A-CF0D75EC13C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3E5D-8638-4A84-887D-A912FFDAF09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0D4A-016F-4331-A5C9-B05535B6FD8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3B68-44E7-479C-B596-C8C4486A45D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D3B3-1E93-432A-A24F-0592A3CE1F7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2554-0F46-47D3-BD89-FC0A6270426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D1B3-D827-43A6-B078-B00D93CE274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7AFC-6A07-4881-B313-424623494F0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6F36-8D51-487D-8EFC-FFF0083B631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7582-B223-476F-938E-BBD2D836FE6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09D3-F73F-4951-83F2-0AB448D4E15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AE11-E819-4845-9424-C08DA7991BE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6B53-86D7-46D9-838C-6739C37CB7B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02C4-79D7-40DA-8CA6-18CAACBB463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F79B-5A28-4073-B75E-7CE9CB518FD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A386-9751-4E3B-B909-63A09F56491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BB14-23D1-4FFF-BC0A-B897444B9F9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A0C9-EEF9-45C8-BEE4-6484E5FE49B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47F6-5092-4AA4-B974-C95DFB0BCE4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E53E-9672-4A12-A055-A3295F823A4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3FC4A-AA6B-478A-A0A4-BEA77974A8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774A6-69CC-483B-B784-AA252AAC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260BC-B9FF-41F0-BDDC-D5AC44AC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03FF8-BEF6-4234-A4AD-6714D45724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4C801-BA79-4666-BFF5-36550B1E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0A651-8AF6-454F-895C-81087779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8225F-BE76-482B-B080-90E498D4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A5189-1A09-4EED-951E-269BC45C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F96F0-2916-40C2-936A-8C432F16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4E219-94E3-48A6-8912-6E1731BA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68463-156A-4A7E-B1F9-950673BB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874DE-246F-4CC6-B9ED-8AF7CE60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5701-ECBA-4FB7-AB96-7AEAE8DBFB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二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命体征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3640" y="1267920"/>
            <a:ext cx="84740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昼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肺炎球菌性肺炎，口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口唇干燥，下列护理措施不妥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体温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放于头顶、足底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日口腔护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测量口腔温度的患者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躁狂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困难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消瘦者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鼻手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发的间歇脉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室传导阻滞　 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窦性心律不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洋地黄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谢性酸中毒患者的呼吸表现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长而规则的呼吸　 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浮浅性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呼吸暂停交替出现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和呼气均感费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度缺氧症状，下列描述不妥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显发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烦躁不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分压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mHg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%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人精神紧张时可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均无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升高，舒张压无明显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降低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无明显变化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命体征的生理变化，叙述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天，体温和血压略增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激动时体温和血压略增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年以前女性的体温和血压高于男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人体温低于青年人，血压高于青年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的脉搏比成人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式呼吸减弱可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量腹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巨大肿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膜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壁静脉曲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盂肾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山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天性心脏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氧化碳中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阻塞性肺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反复咽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，畏寒、高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住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格检查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9.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1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发育正常，营养良好，应答切题，面色潮红，皮下无出血点，全身淋巴结未触及，咽部充血，两肺未闻及干、湿啰音，心脏听诊闻及病理性杂音。患者虚弱无力，不安、烦躁，影响睡眠，迫切希望症状消除，了解发热的相关知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的生命体征存在哪些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士应为患者提供哪些护理措施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原因：分为感染性发热、非感染性发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程度的判断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超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过程及症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上升期：其特点为产热大于散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持续期：其特点是产热和散热在较高水平上趋于平衡，体温维持在较高状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退热期：其特点是散热增加而产热趋于正常，体温恢复至正常的调节水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常见热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稽留热：体温持续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达数日或数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常见于肺炎球菌性肺炎、伤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弛张热：体温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但最低体温仍高于正常水平。常见于败血症、风湿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热：体温骤然升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持续数小时或更长时间，又突然下降至正常水平或正常水平以下，经过一个间歇，再次发作，即高热期和无热期交替出现，常见于疟疾、成人肺结核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规则热：发热无一定规律，且持续时间不定。常见于流行性感冒、肿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腔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全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充足的休息与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理降温技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帽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cap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冷湿敷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ld moist compres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或乙醇拭浴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epid water sponge bath/alcohol sponge ba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冷疗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：体温低于正常范围称为体温过低。当体温低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5 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称为“体温不升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原因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分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患者的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呼吸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原因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中枢发育未成熟，常见于早产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过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调节中枢受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分度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轻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    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 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瞳孔散大，对光反射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死温度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的症状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寒战，面色苍白，口唇、耳垂呈紫色，四肢厥冷，心搏、呼吸减慢，血压下降，尿量减少，甚至出现意识障碍，导致昏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患者的护理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极进行病因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04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玻璃汞柱式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可弃式化学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电子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感温胶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红外线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水银柱甩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，同时放入已测好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的水中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后取出检测，若体温计相差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2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以上、水银柱自行下降、玻璃管有裂隙等则不能再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体温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体温的变化，分析热型及其伴随症状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诊断、预防、治疗和护理等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体温、脉搏、血压、呼吸的正常范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发热的过程及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氧气疗法的种类和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体温、脉搏、血压、呼吸的形成与调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正常体温、脉搏、血压、呼吸的生理变化及影响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异常体温、脉搏、血压、呼吸评估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28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意识状态、心理状况及合作程度以确定测量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无影响体温测量准确性的因素存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检查测体温处皮肤黏膜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36120" y="105264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合理选择测量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避免影响测温的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为婴幼儿、意识不清或者不合作的患者测体温时，护理人员应当守候在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发现体温与病情不相符合时，作对照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如患者不慎咬破水银温度计，应当立即清除口腔内玻璃碎片，再口服蛋清或牛奶延缓汞的吸收。若病情允许，食用富含纤维的食物以促进汞的排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甩体温计时要用腕部的力量，不可触及其他物品，以防撞碎；用离心机甩体温计时，应将体温计消毒后再放入离心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律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搏的强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动脉壁的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：正常成人在安静状态下，脉率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与呼吸之比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脉率易受各种生理因素影响而发生变化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、情绪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、饮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缓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绌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洪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替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冲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搏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体温异常患者的护理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各项促进呼吸功能技术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缺氧类型的特点与原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测量生命体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情况，选择适宜的物理降温方法并按规程完成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进行氧气吸入疗法和吸痰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492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脉搏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好急救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搏测量的部位多选择浅表、靠近骨骼的大动脉（如桡动脉、颞动脉、颈动脉、肱动脉、腘动脉、足背动脉、胫后动脉和股动脉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脉搏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脉搏变化，间接了解心脏、动脉管壁、血容量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诊断、预防、治疗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部位的皮肤完整性及肢体活动度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脉搏测量准确性的因素存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瘫患者应选择健侧肢体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脉搏前如有剧烈运动、紧张、恐惧、哭闹等，应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勿用拇指诊脉，因拇指小动脉的搏动较强，易与患者的脉搏相混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脉搏应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；脉搏细弱难以触诊时，应测心尖搏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呼吸的评估及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测量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呼吸的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中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反射性调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牵张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体感受性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御性呼吸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节律规则，呼吸运动均匀、无声且不费力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：环境温度过高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体温的评估及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度呼吸：又称库斯莫尔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浅快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：常见于喉头水肿、痉挛、喉头异物等浅快呼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鼾声呼吸：由于气管或支气管内有较多的分泌物积蓄所致，表现为呼吸时发出一种粗大的鼾声，多见于昏迷和神经系统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混合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舒适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患者的一般情况如年龄、病情、临床诊断、治疗及呼吸状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的频率会受到意识的影响，测量时不必告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患者有紧张、剧烈运动、哭闹等，需稳定后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呼吸微弱，可用少许棉花置于患者鼻孔前，观察棉花被吹动的次数，计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促进呼吸功能的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效咳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叩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位引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湿化和雾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痰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形成及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与散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7640" y="112500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患者呼吸道分泌物，保持呼吸道畅通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呼吸功能，改善肺通气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并发症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腔黏膜是否正常，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呼吸状况，有无呼吸困难、痰鸣音等，以及患者自行排痰的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反应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，治疗盘内吸痰用物每日更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吸痰导管每次更换，贮液瓶及连接导管每日进行清洁消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液瓶内应先放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毒液，瓶内吸入液不宜过满，应及时倾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管插管或气管切开患者由插管或套管内插入，气管切开患者吸痰时应严格按无菌操作进行，先吸气管切开处，再吸口腔或鼻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吸痰时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以免造成缺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痰液黏稠，可叩拍胸背或交替使用超声雾化吸入，气管插管或气管切开者还可缓慢滴入氯化钠溶液或化痰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4800" y="1197000"/>
            <a:ext cx="8474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：见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-3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4147920" y="32446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氧疗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58920" y="2133720"/>
          <a:ext cx="8785080" cy="4433760"/>
        </p:xfrm>
        <a:graphic>
          <a:graphicData uri="http://schemas.openxmlformats.org/drawingml/2006/table">
            <a:tbl>
              <a:tblPr/>
              <a:tblGrid>
                <a:gridCol w="626760"/>
                <a:gridCol w="1722600"/>
                <a:gridCol w="1724040"/>
                <a:gridCol w="1384200"/>
                <a:gridCol w="1057320"/>
                <a:gridCol w="1135080"/>
                <a:gridCol w="1135080"/>
              </a:tblGrid>
              <a:tr h="695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血气分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困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神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S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C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清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&gt;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9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中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或烦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重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显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、三凹征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昏迷或半昏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活量减少因呼吸系统疾病而影响肺活量者。如哮喘、支气管肺炎、气胸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功能不全使肺部充血而致呼吸困难者。如心力衰竭时出现的呼吸困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3640" y="1196640"/>
            <a:ext cx="8474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的产热器官为肝和骨骼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散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的重要方式有辐射、传导、对流和蒸发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不能由毛细血管渗入组织而产生缺氧。如一氧化碳中毒、巴比妥类药物中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如脑血管意外、颅脑损伤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如某些外科手术前后患者、大出血休克患者、分娩时产程过长或胎心音不良的产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压力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浓度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1341360"/>
            <a:ext cx="84740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与氧气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供氧装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给氧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塞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（以鼻塞法为例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各种原因造成的缺氧状态，提高动脉血氧分压和动脉血氧饱和度，增加动脉血氧含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组织新陈代谢，维持机体的生命活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缺氧状况、血气分析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道是否畅通、鼻腔黏膜情况及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况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程序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遵守操作规程，注意用氧安全，切实做好“四防”：即防震、防火、防热、防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氧过程中，正确评估患者脉搏、血压、精神状态等有无改善，衡量氧疗效果，选择适当的用氧浓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持续用氧者，每日更换导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双侧鼻孔交替插管。及时清除鼻腔分泌物，防止导管阻塞而失去用氧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内氧气不可用尽，压力表指针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 M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时即不可再用，以防再次充氧时引起爆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268280"/>
            <a:ext cx="84740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氧症状：患者由烦躁不安变为安静、心率变慢、血压上升、呼吸平稳、皮肤红润温暖、发绀消失，说明缺氧症状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室检查：主要观察氧疗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装置：有无漏气，是否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疗的副作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不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抑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状体后纤维组织增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分泌物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血压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搏输出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周阻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的黏滞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管壁的弹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血压一般以肱动脉血压为标准。正常成人安静状态下的血压范围为收缩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舒张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昼夜和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在未使用降压药物的情况下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上成年人收缩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（或）舒张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分为原发性高血压与继发性高血压两大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分类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3640" y="1267920"/>
            <a:ext cx="84740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2637000"/>
          <a:ext cx="8077320" cy="1728720"/>
        </p:xfrm>
        <a:graphic>
          <a:graphicData uri="http://schemas.openxmlformats.org/drawingml/2006/table">
            <a:tbl>
              <a:tblPr/>
              <a:tblGrid>
                <a:gridCol w="1978200"/>
                <a:gridCol w="3582720"/>
                <a:gridCol w="25164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部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范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平均值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腔（舌下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腋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直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2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3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6.8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/6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低血压。常见于大量出血、休克、急性心力衰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增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减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好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饮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规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持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有水银血压计、无液血压计和电子血压计三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压气球及压力活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袖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血压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血压变化，间接了解循环系统的功能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情况及既往基础血压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测肢体功能情况及测量部位皮肤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血压测量准确性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与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期检测、校对血压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现血压听不清或异常，应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测压装置（血压计、听诊器）、测量者、受检者、测量环境等因素引起血压测量的误差，以保证测量血压的准确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照中国高血压防治指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版）对血压测量的要求进行测量：应相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重复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如果收缩压或舒张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相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应再次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首诊时要测量两上臂血压，以后通常测量较高读数一侧的上臂血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57:43Z</dcterms:modified>
  <cp:revision>161</cp:revision>
  <dc:subject/>
  <dc:title>内科护理学</dc:title>
</cp:coreProperties>
</file>